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20B-AB78-4188-9C0C-E78ABE90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33A1-EE5A-4800-BCD8-7707C672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9DA6D3-DBE1-4B96-AC2F-8B71F3ED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35BD0D-B02A-400B-B4EF-736A19AB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97AAFB-BD72-4A73-9583-BFF681BE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D363F4-B970-417E-B88F-D8F3EDCD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BB63E6-DBC5-4065-9A29-01BCC637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3AAEFB-8CF9-4A72-9803-001799F6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73C0BF-61B0-443B-B538-D5149F1D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932C9E-6B78-402F-BFD1-E648751C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D8F993-F3C2-4A3C-9F51-E3422C6D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AB08D-5086-4C77-A925-7D64622C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C50D-6B1A-4199-8F35-6F09CF9A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B51F5-2375-482F-8849-8157C2AE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0BA2E-D453-4B84-A705-A502D248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4084F-C215-4242-BA6D-2A402A68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2FC9E-DD94-453B-9374-3F0CF6AA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DC428-1725-42FA-9529-E583143C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CB903-2803-4511-A27B-BE8445AD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63EB1-362F-4504-A628-1DE9B2BA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C2011-405F-41B0-9565-2649193F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79DC7-63FA-44FC-8D98-9887FFC4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8F79D-3F52-4018-A5FD-C4FA9EFA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0903-5640-48E2-8DA5-1EDD4F15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4C0E8-FF64-4588-B0F4-55EE6456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791922-E63A-44A9-BC65-27FC94F4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E994F6-A356-44E6-A1BB-4AB02231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CCC265-60D5-430D-ADF1-2E5508AA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4C851E-8A66-4598-84AA-EAE3CBAD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FB2DF3-FD86-41DD-B830-3DD1A76D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A49C77-FCA3-4705-B7DA-B68154F5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9ED054-CA3E-471D-8FD4-7857CA7F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8FF2E7-871D-499E-9AE3-F47B9E49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A97C1C-E655-473D-84AF-E9159EF3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B3C9-7D5E-4C4C-8005-DD3BFE28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7E99F5-4B2F-4ED8-A58D-69254D61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1A1C60-B74F-4E0D-8E74-FAC923E6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C9250A-1F34-415C-AAA5-CEDA78E8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D2F29-FF37-4F04-8948-7F966336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6212C-472A-4B9E-886B-671C5E70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68B18-6363-4474-AC60-1594FF84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889ED-A8A7-4C9C-AEA6-510F3F70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CC0CF-E58B-4797-AB28-D7657239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B5961-A0BD-48AE-BC1C-B409C63E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63D21-17A3-4DB4-94F6-5246ADC8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4958-39F5-4DF0-9A66-F7F120A1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D6310-DC3E-4ED6-BFC7-42DA8464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9E1F0-D4CA-4478-A202-EAF72F0C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871EB-54DC-4BCB-A3AD-7551660C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EE0F6-67C2-4D38-8F59-E3937DD6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D77AA-BF80-4622-AAF6-2D67963C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6B0E-95D8-40F5-8E2C-5AA9AF3A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34EB-A813-4BB4-A6F1-0F4B6672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ADAB-834F-492C-8ECC-F121D42F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9108-4739-4C24-8AF4-1FD7AF85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9BB6-9336-4B76-8080-F40D9312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515-F5DD-4B44-A06F-44D211C6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73C3-E130-44DE-8437-5CCF282B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E6E3-F558-4409-BAEA-9C80C9B5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C018-B26A-4A20-B694-24C3FF9C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A35E-25DF-447B-81F1-60193880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9B92-DA98-4847-A6FA-C4E7CB31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C30F3-8C84-4064-9A35-87E10E5C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95330-42FD-4A61-96C8-61F7FCCC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63D5F-72E8-4ADA-A4F1-F64BBAD9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8F83C-77F8-4CBC-BADB-743B7596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E8007-0950-4EE1-9D8E-590BB8AB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EFA-11FE-48C7-80C9-4491662A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5496F-017C-4486-888D-2012D425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0BE45-93D6-4132-BF05-D5414F01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CAA67-7BC6-4530-9BB3-40D45AA3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BD3E9-4182-4A28-8574-89BAA118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CB0EF-9914-4A54-96DD-0F360DE7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278C3-A202-4171-A339-7CF2F30E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0E35F-5B74-416F-82E7-398CA4C3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19419-CE58-4D7E-B30E-F2D26A66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A663-0363-466E-AA75-380212E4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84282-B5C7-4454-9107-9FF8F1D4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B77E-34E2-47C5-AD47-F65FDB21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ECCC6-96AE-482F-AF85-EE494D51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089FC-42EA-456E-A1B9-FC2E5F75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09E88-90A2-4292-B5D6-86A7036A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ED94C-A7F1-4727-890E-AB8B7DF4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7DCEC-5B5B-4DF9-B8F8-93A0DDE7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C603A-D1C3-4193-8840-5EFB13C0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981F0-AEBB-4FA7-A56A-ADA590F7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0B2EE-D886-42FD-8B57-3A37E1FB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5ECDC-4D7C-4D2A-8CE7-8E829803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F38B1-5DFC-4FE0-9C44-6473F98B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7BC-C66B-4016-BF59-EDE76FED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B807E-3479-4A20-91A6-ADCEE620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A823D-0B3A-472D-8671-28B22F87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B4A83-D94F-485D-9F3E-619E52FD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21BD4-8B31-41D5-B812-5FD215FD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8DBE9-CA95-4138-80C3-7E54CB18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DA0B1-B55B-4FF5-89C0-9F2DDDB4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F4C16-F550-4CFF-B653-EC3C6A8F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796B1-FED5-48EA-BACC-2F7CA111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FD44E-31C1-4627-9DF5-8CB7D7BB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918EF-2447-4617-87CC-ECDF33AE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7CE-23AD-4349-90A0-2E39540A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3CFDB-C1FE-4BAC-8AC2-EF9D503A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F30E5-8C51-4941-B5EF-660B1DDC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F3C0E-BC1E-46B7-8365-49B42686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E83BC-CE81-4A32-9EE7-DA7A1FD4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1EA18-5981-480D-A0E3-14A2E37E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91B16-D5E7-4C3C-9744-EEAD260C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80620-2EC9-4A4A-8B5D-EBF882C9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B8A27-575A-4F95-B2AE-CD9A457B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EF724-E6D8-4539-9AC3-EB07F309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31BFC-5E11-4734-AA0E-15AB37E9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74C4-D4C1-4A5A-A773-6A17AC7A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54323-19C0-48DC-A652-CFBF1002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DA348-BD30-4246-8745-CC2FF247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5F046-890E-4251-84EE-B2FF421C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EEAE2-FDF3-441E-85E3-B058032A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4F7CE-3546-48B4-877B-A9F99CEC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E3403-0013-4511-A63C-5CBBA8B8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F3003-BCD6-40CF-A598-8DB832E9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E76F1-9A28-49C0-A670-8DD2DB05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8D63A-7BBE-4614-9C5D-73365365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E8137-C50A-40D8-A275-9C47C5CE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0DFE-BD8E-4602-9531-5C2146AC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ADBAE-6656-482A-9D7C-A8EF8AA4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D85DB-84BF-4077-B88D-A10923A3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AE27C-7F2A-4B6A-A357-ACBA4920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301E2-99A4-4C63-AECC-0844B6D6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5EFF7-FAFD-480A-84BC-1796AD55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21153-3315-415E-9566-0C4FEBBC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FB08A-83BB-4BFE-ACE6-F6EA950A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A1BED-F9CA-4612-BD24-4494C8C5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E7F65-F5E3-4B3A-B352-EBAE0C7D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66CCC-9688-4762-A549-AEEF4D0B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6B8-D003-4730-9C30-71395E0B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A9490-723A-44B5-8796-E7ADAFFE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A02B8-D55F-4F6F-8BCE-DF7B489D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49FFF-730B-449B-8B36-812262D8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79891-7712-44ED-A618-898F1842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B686C-A152-4BF3-9CAF-C532FD72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E6A1B-E0DA-4348-886C-E3B57A45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D941B-FCD7-4100-99D3-E0331BDF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8DC80C-FD58-4FE1-8701-FF74FFD4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F865AD-98D1-4ECF-975F-B7497288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9F9D1D-F943-44CD-9ED9-2AC53844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B1AB-4ED9-4990-A0EB-B9FA9DE843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8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CFD4-48C7-4360-A3BF-91257FC9612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DB65-524B-4EB7-8E31-DF4242BE55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4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4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85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9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9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71BE-21D6-4BCD-A7CB-C8B88664B3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441F-8BAB-4715-B280-38A663E8CA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3A6C-D271-4F91-996E-3A33D74305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9B60-BA6A-479B-BB50-4F7C855964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7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31E5-E6AF-4ABE-A9D1-F648EE1A7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2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E22E-7976-402F-A2C3-AD143B508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7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7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7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7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265C-B9E6-4195-AE33-12FCC629EAD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4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4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5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5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6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7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9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0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0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1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1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2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2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2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3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3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3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4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4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5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5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5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6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0A3C-8A4F-4BBE-B1C9-E2AAA9B8408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2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7036-91B1-4B8B-949A-FD391A2EEAF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ahoma"/>
              </a:rPr>
              <a:t>La Mansió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 Page Freem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2"/>
          <a:stretch/>
        </p:blipFill>
        <p:spPr>
          <a:xfrm>
            <a:off x="1752480" y="1752480"/>
            <a:ext cx="5753160" cy="38419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>
            <a:off x="914400" y="59436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Por: Page Freeman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Garaj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 un garaje. Es impresionante y magn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c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Mans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219320" y="175248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219320" y="167652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ahoma"/>
              </a:rPr>
              <a:t>Es una mansi</a:t>
            </a:r>
            <a:r>
              <a:rPr b="0" lang="en-US" sz="3200" spc="-1" strike="noStrike">
                <a:solidFill>
                  <a:srgbClr val="2f1311"/>
                </a:solidFill>
                <a:latin typeface="Tahoma"/>
                <a:ea typeface="Tahoma"/>
              </a:rPr>
              <a:t>ó</a:t>
            </a:r>
            <a:r>
              <a:rPr b="0" lang="en-US" sz="3200" spc="-1" strike="noStrike">
                <a:solidFill>
                  <a:srgbClr val="2f1311"/>
                </a:solidFill>
                <a:latin typeface="Tahoma"/>
              </a:rPr>
              <a:t>n. Es muy grande y fabulos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57531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La Cocina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761760" y="1755720"/>
            <a:ext cx="79246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s una cocina. Es moderna y grand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495288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El comedor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 un comedo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s bello y magn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c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1828800" y="2895480"/>
            <a:ext cx="4498920" cy="357660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1371600" y="3200400"/>
            <a:ext cx="49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a Sal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s una sala. Es estupenda y impresionant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l Ba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  <a:ea typeface="Arial"/>
              </a:rPr>
              <a:t>ñ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un baño. Es bonito y lujos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56134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uarto. Es moderno y fabulo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2"/>
          <a:stretch/>
        </p:blipFill>
        <p:spPr>
          <a:xfrm>
            <a:off x="1981080" y="2743200"/>
            <a:ext cx="518184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Pati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patio. Es inc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 y gra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34340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Jard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s un jardin. Es fabuloso y bel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3" name="" descr="File:Japanese Garden by slonecker.jpg"/>
          <p:cNvPicPr/>
          <p:nvPr/>
        </p:nvPicPr>
        <p:blipFill>
          <a:blip r:embed="rId1"/>
          <a:stretch/>
        </p:blipFill>
        <p:spPr>
          <a:xfrm>
            <a:off x="2286000" y="251460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08:48Z</dcterms:created>
  <dc:creator>freemanpag</dc:creator>
  <dc:description/>
  <dc:language>en-US</dc:language>
  <cp:lastModifiedBy>freemanpag</cp:lastModifiedBy>
  <dcterms:modified xsi:type="dcterms:W3CDTF">2013-04-03T17:56:43Z</dcterms:modified>
  <cp:revision>5</cp:revision>
  <dc:subject/>
  <dc:title>La Mansión</dc:title>
</cp:coreProperties>
</file>